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F39-7F13-46F8-852E-44924644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8E49-7A18-4E6F-8621-F7CE6FEE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C13D-4730-4200-88F1-A88B9CF6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13C2-FAFA-4B60-A8CA-88D82D57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A3F-2E36-4F41-8E70-7B8F0EB2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6EED-54D2-4632-9038-DD390922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4A0-41FE-4C0D-BECF-8CA25829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33DE-738C-4385-9D99-A8B2CE36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FCF9-3BE0-4AF7-B105-A5E3212A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E7A-F1A3-433D-ABFC-86DFA1CA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7D7-9EAD-4805-AE53-E0447EFA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643-5ABE-4C8F-AE4E-67071B9E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DE16-DA26-40F3-B55F-A9C642B8B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34080"/>
            <a:ext cx="88394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4.1 Divisibility and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1: Using Divisibility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2: Finding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on 4.3 Prime Factorization and Greatest Common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1: Finding Prime Fact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2: Finding the G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4.4 Simplifying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1: Finding Equivalent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2: Writing Fractions in simples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2698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" y="2133720"/>
            <a:ext cx="8077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. 189  #18 – 24 even      p. 194 #28 – 34 even    and  p. 195 #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784872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687600"/>
            <a:ext cx="8693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visibility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the number is 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If the sum of the digits is divisible by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If the last two digits are divisible by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Ends in 5 or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If it’s divisible by 2 and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If the last three digits are divisible by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If the sum of the digits is divisible by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Ends in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4680" y="302760"/>
            <a:ext cx="55389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integer is divisible by another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integer is a factor of another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6840" y="3750120"/>
            <a:ext cx="4600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45 divisible by 3? 5? 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factors of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7621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he remainder is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22860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f it divides that integer with a remainder of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4191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yes, yes,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5486400"/>
            <a:ext cx="342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, 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,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5,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6829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0" y="90648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Yes, it ends i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144792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No, it doesn’t end in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198108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No, it’s not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25146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Yes, it’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0481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No, 6+4 = 10 and 10 is not divisible by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3581280"/>
            <a:ext cx="35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No, 4+7+2 =13 and 13 is not divisible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411480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Yes, 1+4+7 = 12 and 12 is divisible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464832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Yes, 4+3+5+4+2 = 18 and 18 is divisivble by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528804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1, 2, 5,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5334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1, 3, 7,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56386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1, 2, 3, 4, 6, 8, 12,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56307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1,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5280" y="33552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valent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4120" y="17517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152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learn that 21 out of 28 students in a class buy their lunches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eteria. Write and simplify the fraction to describe thi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0400" y="228240"/>
            <a:ext cx="33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in simplest 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63828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8360" y="225000"/>
            <a:ext cx="566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 Fact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st Common Factor (GC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0080" y="410004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rime or Compos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                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5335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n integer, greater than 1,  whose only factors are one and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1447920"/>
            <a:ext cx="49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1371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n integer, greater than 1, with more than two positive fa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22860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Writing a number as a product of pr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320040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he greatest factor that two numbers have in  com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37339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Hint: It’s smaller than either of th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49528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ompo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30492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prime factorization of 2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1360" y="3276360"/>
            <a:ext cx="518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GCF of 24 and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GCF of    36ab  and    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3657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5334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92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" y="838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11, 13, 17, 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6765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10, 12, 14, 15, 16, 18,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* 3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1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* 5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67480" y="3124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* 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5334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5029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5181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5257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5:00:12Z</dcterms:created>
  <dc:creator>Susannah Graham</dc:creator>
  <dc:description/>
  <dc:language>en-US</dc:language>
  <cp:lastModifiedBy>grahams</cp:lastModifiedBy>
  <dcterms:modified xsi:type="dcterms:W3CDTF">2011-12-14T14:33:41Z</dcterms:modified>
  <cp:revision>6</cp:revision>
  <dc:subject/>
  <dc:title>Slide 1</dc:title>
</cp:coreProperties>
</file>